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9C7-DE48-469F-88E8-BC21A85A39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alife.com.u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avostok.ru/upload/information_system_1/3/0/2/item_3022/information_items_302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01B7-B5CC-43E0-A331-AC1254072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821-7E32-487B-8F53-680CA530A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ivejournal.ru/static/files/photos/zoom/788_10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8E9C-DD10-4FA1-A9C3-E9182B846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8ED-E6DC-4377-9B6B-BA6216A6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FE-3C5F-48C1-86ED-497AC307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D7C-6B1C-4B01-9EB3-718DD2D4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627-C233-4F61-9370-C3C893F4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0716-E9F8-47D2-9D44-693E3170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CF79-48CA-4150-859E-92F6426E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9BDA-BF2C-4252-BF4A-CFB656C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8B91-3885-4D1A-9BAD-D8F946AD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698A-5DFF-4BD2-8489-8A1916CA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E67-F130-4D8C-9874-155439A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71B6-F396-4E38-B522-E6E603D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EC0-FBBE-491A-B4DF-6A24A7F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5F45-A6ED-4D30-A11A-DD603F4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8B6F-7439-419E-9C42-5F9F42B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8FC5-FE3E-4377-AFCE-8C860ED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B42A-1943-4095-8B06-4D64B249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ECDB-292C-4015-A9A8-F1399E93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47A3-AC34-4ACE-860E-64B7E089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76F2-3DE5-45B2-B9AA-626B4C6D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2647-7FD1-47A9-B67A-849162A0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9D9E-7B2E-4557-834A-C90B96A8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CD43-0C42-4F33-9D44-3717F51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8D4-2919-4359-8504-4CCCD29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A7A7-B594-4598-851A-1ABD30CE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6C21-2AEA-4124-943F-E4B1180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6EE7-B44A-439E-8C7F-EC52D9E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B635-339C-4E9D-BBA9-C9098C1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FAE7-276F-46CB-8667-F1049ABE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9541-4547-4ECD-862D-7CE8DF87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0214-3D33-4940-9361-2C2FB549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37CB-0C2F-446C-A184-DFB12AFA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9CD9-1899-41D9-96E0-C68010F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8B48-60E1-4BEE-A7D2-ED0D58FE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E08-C1B7-413E-8422-163F7DF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DA88-1159-4C29-9BA2-CC32CF6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CD51-FA77-4FF7-A5A1-2B174404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E8B7-C600-469A-9A53-CC7DDA40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D548-D6C6-416D-963D-2F2E90A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2947-5246-42BB-B13E-62623CC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83CC-88AB-43F8-B35E-009E960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FC2C-4767-4082-A25B-69EE1F7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5CE7-0F84-4680-B27F-DE78F3AD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002B-2BA3-4146-8860-DD4C9562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CF3-DBDB-4945-A0E9-3847A56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C89-161E-4196-ACFC-55D5372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47-E9CF-4E56-B930-51BB99A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AAB-C5F9-43FE-96E3-E8E23C8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24C-BD57-4799-A3FA-F5EC11C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CAB-74FD-44C2-A5B2-FD1E6DDBB01E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DC46-4EE4-45D8-ACFA-7ABFA9984AD5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117-0093-4027-9AA8-36C894E57684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907-5DCC-442E-87E5-85317D811A3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71480" y="476280"/>
            <a:ext cx="7602480" cy="1712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39640" y="5578560"/>
            <a:ext cx="115272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3465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413000"/>
            <a:ext cx="4035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МИЛОСТЫНЯ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ОМОЩ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6520" y="731520"/>
            <a:ext cx="33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643280" y="1844640"/>
          <a:ext cx="3673800" cy="1368360"/>
        </p:xfrm>
        <a:graphic>
          <a:graphicData uri="http://schemas.openxmlformats.org/drawingml/2006/table">
            <a:tbl>
              <a:tblPr/>
              <a:tblGrid>
                <a:gridCol w="3673800"/>
              </a:tblGrid>
              <a:tr h="13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казание помощи, не вникая в пробл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284720" y="3573360"/>
          <a:ext cx="3887640" cy="207324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07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ребует большей включённости в проблему,   которую пытается решить челове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300" name="Заголовок 2" descr=""/>
          <p:cNvPicPr/>
          <p:nvPr/>
        </p:nvPicPr>
        <p:blipFill>
          <a:blip r:embed="rId1"/>
          <a:stretch/>
        </p:blipFill>
        <p:spPr>
          <a:xfrm>
            <a:off x="804960" y="79200"/>
            <a:ext cx="75834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Непоседы - БЫТЬ ЧЕЛОВЕКОМ. Песня со смыслом..mp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3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ИТЧА О СТАКАНЕ МОЛОКА.до слез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ttp://festival.1september.ru/articles/512376/Image4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285840" y="383760"/>
            <a:ext cx="4786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ьте внимательными, вдруг кому-то нужна ваша помощь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дите, когда вас попросят, а помогите нуждающим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920" y="1341000"/>
            <a:ext cx="68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. Составить представление о таком понятии как «МИЛОСЕРДИЕ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.Научится анализировать поступки людей в раз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.  Высказывать свою точку зрения, отстаивать собственное мнение, принимать чужо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0042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179280" y="171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rebuchet MS"/>
              </a:rPr>
              <a:t>МИЛ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ЕРД</a:t>
            </a:r>
            <a:r>
              <a:rPr b="1" lang="ru-RU" sz="6000" spc="-1" strike="noStrike">
                <a:solidFill>
                  <a:srgbClr val="000000"/>
                </a:solidFill>
                <a:latin typeface="Trebuchet MS"/>
              </a:rPr>
              <a:t>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719280" y="1700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ердце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alibri"/>
              </a:rPr>
              <a:t>милует любит жале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844560" y="354960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37240" y="212580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ЛОРА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964120" y="12938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681516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53240" y="4968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192400" y="298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039680" y="46832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04720" y="556272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311880" y="27144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2282760" y="274464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276228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543040" y="1832040"/>
            <a:ext cx="15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859280" y="3441600"/>
            <a:ext cx="16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6105600" y="587700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043520" y="43909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6858000" y="275436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892680" y="51465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2925720" y="58849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9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 rot="4272600">
            <a:off x="2672280" y="1180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АГ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 rot="4471200">
            <a:off x="4144320" y="5125320"/>
            <a:ext cx="25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 rot="2527800">
            <a:off x="5257080" y="44438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 rot="17479800">
            <a:off x="3316680" y="51872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 rot="20047200">
            <a:off x="1512000" y="393228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7"/>
          <p:cNvSpPr/>
          <p:nvPr/>
        </p:nvSpPr>
        <p:spPr>
          <a:xfrm rot="2500800">
            <a:off x="1857600" y="177480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 rot="19146600">
            <a:off x="4950000" y="14450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9"/>
          <p:cNvSpPr/>
          <p:nvPr/>
        </p:nvSpPr>
        <p:spPr>
          <a:xfrm rot="718200">
            <a:off x="1587600" y="29509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 rot="19135800">
            <a:off x="2155320" y="469548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СКОРЫС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 rot="1218600">
            <a:off x="5850360" y="34318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2"/>
          <p:cNvSpPr/>
          <p:nvPr/>
        </p:nvSpPr>
        <p:spPr>
          <a:xfrm rot="20458800">
            <a:off x="5733360" y="2263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 rot="17026200">
            <a:off x="3888000" y="111672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3645000" y="2522520"/>
            <a:ext cx="1852560" cy="1811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4"/>
          <a:stretch/>
        </p:blipFill>
        <p:spPr>
          <a:xfrm>
            <a:off x="36360" y="0"/>
            <a:ext cx="2936880" cy="213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5"/>
          <a:stretch/>
        </p:blipFill>
        <p:spPr>
          <a:xfrm>
            <a:off x="6126120" y="3859200"/>
            <a:ext cx="303840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5080" y="7315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Пальто_ История милосердия.mp4" descr=""/>
          <p:cNvPicPr/>
          <p:nvPr/>
        </p:nvPicPr>
        <p:blipFill>
          <a:blip r:embed="rId1"/>
          <a:stretch/>
        </p:blipFill>
        <p:spPr>
          <a:xfrm>
            <a:off x="-17640" y="54936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Эмпатия — не сочувствие, а понимание обстоятельств человека, даже если ты  сам никогда в них не был - ВОмске"/>
          <p:cNvPicPr/>
          <p:nvPr/>
        </p:nvPicPr>
        <p:blipFill>
          <a:blip r:embed="rId1"/>
          <a:stretch/>
        </p:blipFill>
        <p:spPr>
          <a:xfrm>
            <a:off x="2195640" y="2781360"/>
            <a:ext cx="6667200" cy="3600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725400" y="176040"/>
            <a:ext cx="7948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8" descr="1576.jpg"/>
          <p:cNvPicPr/>
          <p:nvPr/>
        </p:nvPicPr>
        <p:blipFill>
          <a:blip r:embed="rId2"/>
          <a:stretch/>
        </p:blipFill>
        <p:spPr>
          <a:xfrm>
            <a:off x="179280" y="189000"/>
            <a:ext cx="4121280" cy="352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-_xZdkZPpDE.jpg"/>
          <p:cNvPicPr/>
          <p:nvPr/>
        </p:nvPicPr>
        <p:blipFill>
          <a:blip r:embed="rId3"/>
          <a:stretch/>
        </p:blipFill>
        <p:spPr>
          <a:xfrm>
            <a:off x="179280" y="3645000"/>
            <a:ext cx="4148280" cy="3041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miloserd500_1242722150.jpg"/>
          <p:cNvPicPr/>
          <p:nvPr/>
        </p:nvPicPr>
        <p:blipFill>
          <a:blip r:embed="rId4"/>
          <a:stretch/>
        </p:blipFill>
        <p:spPr>
          <a:xfrm>
            <a:off x="4500720" y="1071720"/>
            <a:ext cx="43448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4737240" y="2125800"/>
            <a:ext cx="2674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64120" y="1293840"/>
            <a:ext cx="28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2192400" y="298440"/>
            <a:ext cx="2133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311880" y="271440"/>
            <a:ext cx="1836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2762280" y="112536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2543040" y="1832040"/>
            <a:ext cx="150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8" descr="milostyna.jpg"/>
          <p:cNvPicPr/>
          <p:nvPr/>
        </p:nvPicPr>
        <p:blipFill>
          <a:blip r:embed="rId2"/>
          <a:stretch/>
        </p:blipFill>
        <p:spPr>
          <a:xfrm>
            <a:off x="1187280" y="1268280"/>
            <a:ext cx="4121280" cy="2643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1444811.jpg"/>
          <p:cNvPicPr/>
          <p:nvPr/>
        </p:nvPicPr>
        <p:blipFill>
          <a:blip r:embed="rId3"/>
          <a:stretch/>
        </p:blipFill>
        <p:spPr>
          <a:xfrm>
            <a:off x="4716360" y="2637000"/>
            <a:ext cx="4049640" cy="28573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3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1a08"/>
                </a:solidFill>
                <a:latin typeface="Calibri"/>
              </a:rPr>
              <a:t>Милосты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16"/>
          <p:cNvSpPr/>
          <p:nvPr/>
        </p:nvSpPr>
        <p:spPr>
          <a:xfrm>
            <a:off x="971640" y="544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омощь друг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человеку из жалости к н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202</cp:lastModifiedBy>
  <dcterms:modified xsi:type="dcterms:W3CDTF">2024-02-16T10:04:38Z</dcterms:modified>
  <cp:revision>170</cp:revision>
  <dc:subject/>
  <dc:title>Презентация PowerPoint</dc:title>
</cp:coreProperties>
</file>